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08F-EF61-4357-BE27-B0FB845C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173-6E6C-4EE4-ACDC-C66AAE02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0B0AB-8C8E-466F-B29B-BF3DDFB6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CC789-57B8-48BB-96D1-2FD7DA0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76451-EF50-4205-A60F-820644E1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05C8A-B3A1-43A1-826F-0B125651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F24D2-62C4-4358-B8C6-05EC024A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D2C23-931D-4234-8364-6C64927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C660B-0CAF-4159-8413-6685D80A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8F2AF-0B83-4F6D-AA78-E4773853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70A0C-FF96-442B-ADB1-24100285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7B61A-E968-46E7-9E9C-F4CB0AEC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277-79A3-42C3-8695-2977DF03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A0152-958E-4D9D-AF35-FBE6CED7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CC645-942F-4066-9F48-22D26D79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DDEE2-56A2-4125-B30A-D98310CA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3C78A-CD95-4193-82DF-94811C22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0AF17-BD31-497C-9F8D-62219B0C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00041-E5E0-413C-9FE3-5E79F80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9DB47-2663-4BA1-A960-32DD05E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BA2C5-84DD-453D-A2E6-EC5A0A8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55B06-2D33-4649-919A-91AA0AA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53C4F-31B5-4E11-98AD-C438D405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621-E200-4DD5-9482-2DC60774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DF6C5-9E89-4545-98F9-06ED60A8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CE07F-CC2C-4DEA-A7B4-FD5062FE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54C67-AA61-4F34-AD43-DB382DFE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F7837-27B9-49A5-A1B1-2A4EB9DD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7C3CF-A51A-44C3-88D1-F245898B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4C390-2122-424E-9FD7-E4A93DA9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3121B-AD8D-47A3-A2F3-4BAEC64A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27CD5-4CFA-4067-BCA9-3114FB71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5DF6D-0E33-4306-82DC-0BF9CED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3F030-3DBD-4ECA-866E-E632BD4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B129-794D-49B7-BB1A-E98A6734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806A7-A9E3-4A97-AFB3-A3DFF113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22FA5-951E-49B4-8086-F021DFDA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DB581-E8F8-4126-86F6-AC4F1AB8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5B93C-5361-4231-9B4B-73E17EA6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C91C0-77BF-419A-8697-C4A8ED91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FC26E-8141-421F-9F86-D40F821C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66DDD-29BF-4D12-9101-3A3C3253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06706-C21B-4A02-9671-68FACB8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A48C2-4104-4F4E-B10B-B076379D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662A4-36C1-41EC-97A5-7C0CC11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5876-6873-4552-B7EE-465E50CB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E95A6-5797-4909-BAF3-D6968C7A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E5B11-72C1-44EA-B563-579B41B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72961-257A-46D8-8E63-2C029BDC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7CEA9-5CEF-4C07-9D47-0397CDCD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E1B93-8589-4819-80E2-A180F0F9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D3A2-C7BA-45C2-899A-E57EBBA9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46C8-19EC-47BA-99CC-8EDCB7EB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5524-CF9A-4027-8255-BABDF75B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A4D-78A2-41D3-9935-E547385F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9F18-0619-4FDD-B621-37DCC28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782-A12C-4C44-BFCF-F1E99674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14B7-E2BE-437B-AE20-EE3865B3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D997-99B5-4138-86A4-1775D4F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98C8-5494-43A7-9FD0-C344E3FA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9DE-E443-4014-B937-0CC7B8FC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A59F-624D-47C0-A32E-0B0C6CA8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61F1-4AB0-4DF7-BB4E-377E8A8A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D90A-5582-4318-A5B0-4E34477F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7776-97D9-40C9-BDCC-C5EDE60C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7E18-5F1F-4A22-BD0B-67AD56EE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CD03-D230-4B36-90ED-9D820660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E7B-F59A-47B6-9C3A-45750993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6AD2-5D34-4B06-900E-12E9BEF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44EB-5B32-4D15-BB6C-C7AE5C1A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7F49-A5DE-4228-A8E8-82503F0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452D-6EFC-47AD-AB9C-ED3B67F2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C7E6-B7DB-4942-8800-F7A2A051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73A7-848A-4EE9-A21D-77058CBD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6B79-D0A9-4765-A827-C0FC2388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EB664-6D63-4D63-85AD-3F6516F3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3489-8C64-4A3F-906D-3D32283A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79FB-59AF-4031-AB21-3733C696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FEB-3697-4EC9-9E87-698E2F03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79DF-AB6A-46EA-9632-95EE42C5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17B5-5A06-4781-9083-536E946B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60E4-1236-4381-BF9B-7499E64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7F646-84D1-4C24-A941-086E299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06FD-021E-41D7-82FA-A13787D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4DD5-476B-4B84-9434-E7D60B7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69090-9F3D-4A8E-857C-1246CD80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DECFE-7E63-4982-B593-D9E7C468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62107-B033-4EC0-A567-ACF329A6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D60E-72BA-4726-9795-686AECC6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0C9-5FD9-426A-A286-0EB17FA2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C5B3-80AD-45B5-9309-FE429D0E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ADE77-3460-40DE-A2B3-89FF504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0CDEB-8345-4768-B00D-A750F59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853C-BF81-4C88-972C-CF9980B2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1512F-1C6E-47B4-95E3-C0BF2652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CF928-4E77-4C6C-8CA4-4F7EE1F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E522-301D-4AC1-A3B6-27741B3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ABAB-DBCA-44D2-9148-AC34F52B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8EB48-6044-4255-8D27-51E6C74A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4FDDC-43F6-4CC4-86E2-D3835D62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190-AC06-4221-B298-F96751E5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7F0E8-AB96-4B7C-A8F7-13FBD536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A4AC8-2626-4FB0-9AA8-82B22674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F5CAE-1C23-4AF8-B40F-FCF3EE1E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7E8FD-6CA2-442E-9F8D-7B49B5D8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2BBA0-0A18-4C15-BD67-FD08348C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D68F-844C-4428-B965-A42D82A9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A93EB-FB25-4267-B4CA-5C7B0A62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72925-0AC5-4AB1-AE63-551AF78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BE58-E2C0-4960-BA62-8C48DB4B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21E99-126B-49CB-9095-099D483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DF6-8819-4B7D-988A-0C265C6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18CF9-9281-452D-A03A-90E33026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4A47-C95F-4707-A1EC-1FAC2A33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65C6A-9808-4AA8-87CC-50D47D03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0E6F2-3AC9-4537-8FE6-AB4CE61E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58BE4-A338-45AC-9B19-3CBB37C3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1347C-57D4-4C91-90CB-06C97906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FBB93-F8C9-4A4F-B6AC-E6724B6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F6F3B-3C9C-43D5-BE62-36434EF2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B1354-4A35-4191-B3C3-FDCC74EF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86CE6-80E0-4FD0-80CA-BC7EABFF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C87-F27D-49DE-8469-276F2E7C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64AA-F7B7-4DB1-9926-5E1E9B1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F2FD9-BEAF-4C74-BA4F-72101C76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C3B07-6D9B-49D0-8E98-A24FAC16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B4C99-5463-44F0-8F48-6A10268A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CB5C9-EEBB-4A12-A871-5781ADF6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B102F-83C8-4A07-9CD8-BDFF6BE6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87BE0-7B61-4D87-92D5-26BBD1C4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5D8DB-CEB1-4825-A887-B8107EDC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9FD15-390D-4C5A-B5A6-F564F30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BA42F-4134-443D-95E6-19C62572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A3E-923A-4DED-82A3-58D7B5E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128F9-9E49-49E0-9CFC-93AACB3A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99491-0F0F-41D7-8824-9B35B4B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4DC3E-4470-4F87-BB36-29C48147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4B433-10FC-4ADB-B46C-CC31F32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96E6C-B4EC-4DD2-8494-F3A4E848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9115B-0483-4154-9C2E-33455952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3F3F0-273F-4B12-AF81-51FD28E5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AD3ED-D41F-48D0-9629-C0225686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DC72C-E2E0-423B-BE9D-727F6E9F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BA807-0BA9-4C78-B920-70BE3A14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D7AF-2E18-4BAD-A87C-694DD956FE92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798F-D7C8-41C6-B961-AC00D6AB034D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35B-CDCD-42EE-BBAC-F7CF4D6183E1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F2E6-1F2C-4482-A269-69ED42D53EF8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908E-E74F-4780-96C0-CC0C33E05E68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75B1-D4ED-49E2-A2E1-E1E094CB3DEE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4F05-CAE3-4A00-8EC1-6F68F319A6D1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103C-A7CA-46CB-8D85-86DA8FF0A8AC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DDAB-F0CE-4B48-8C24-B0EB24F8DBD7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93FE-8DA5-4E26-9E22-09583115AB40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0781-7899-4949-A509-8DFCCC326A15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955-F8B4-460F-ABBD-9FE6C268670D}" type="slidenum">
              <a:rPr b="0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08000" y="90792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CINEMATICA</a:t>
            </a:r>
            <a:br>
              <a:rPr sz="3200"/>
            </a:br>
            <a:br>
              <a:rPr sz="2000"/>
            </a:b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481880" cy="4395600"/>
          </a:xfrm>
          <a:prstGeom prst="rect">
            <a:avLst/>
          </a:prstGeom>
          <a:solidFill>
            <a:srgbClr val="20ff2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Magnitudes física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Sistema de referenci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00"/>
                </a:solidFill>
                <a:uFillTx/>
                <a:latin typeface="Arial"/>
              </a:rPr>
              <a:t>Desplazamiento y espacio recorrid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Rapidez medi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Velocidad medi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Velocidad promed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66"/>
                </a:solidFill>
                <a:uFillTx/>
                <a:latin typeface="Arial"/>
              </a:rPr>
              <a:t>Aceleracion medi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1 CuadroTexto" descr=""/>
          <p:cNvPicPr/>
          <p:nvPr/>
        </p:nvPicPr>
        <p:blipFill>
          <a:blip r:embed="rId1"/>
          <a:stretch/>
        </p:blipFill>
        <p:spPr>
          <a:xfrm>
            <a:off x="219240" y="285840"/>
            <a:ext cx="3127320" cy="3047760"/>
          </a:xfrm>
          <a:prstGeom prst="rect">
            <a:avLst/>
          </a:prstGeom>
          <a:ln w="0">
            <a:noFill/>
          </a:ln>
        </p:spPr>
      </p:pic>
      <p:cxnSp>
        <p:nvCxnSpPr>
          <p:cNvPr id="507" name="3 Conector recto de flecha"/>
          <p:cNvCxnSpPr>
            <a:stCxn id="506" idx="3"/>
          </p:cNvCxnSpPr>
          <p:nvPr/>
        </p:nvCxnSpPr>
        <p:spPr>
          <a:xfrm>
            <a:off x="3281040" y="1044360"/>
            <a:ext cx="1794600" cy="1080"/>
          </a:xfrm>
          <a:prstGeom prst="straightConnector1">
            <a:avLst/>
          </a:prstGeom>
          <a:ln w="44280">
            <a:solidFill>
              <a:srgbClr val="000066"/>
            </a:solidFill>
            <a:miter/>
            <a:tailEnd len="lg" type="arrow" w="lg"/>
          </a:ln>
        </p:spPr>
      </p:cxnSp>
      <p:pic>
        <p:nvPicPr>
          <p:cNvPr id="508" name="26 CuadroTexto" descr=""/>
          <p:cNvPicPr/>
          <p:nvPr/>
        </p:nvPicPr>
        <p:blipFill>
          <a:blip r:embed="rId2"/>
          <a:stretch/>
        </p:blipFill>
        <p:spPr>
          <a:xfrm>
            <a:off x="4986360" y="244440"/>
            <a:ext cx="3779640" cy="4383000"/>
          </a:xfrm>
          <a:prstGeom prst="rect">
            <a:avLst/>
          </a:prstGeom>
          <a:ln w="0">
            <a:noFill/>
          </a:ln>
        </p:spPr>
      </p:pic>
      <p:sp>
        <p:nvSpPr>
          <p:cNvPr id="509" name="6 CuadroTexto"/>
          <p:cNvSpPr/>
          <p:nvPr/>
        </p:nvSpPr>
        <p:spPr>
          <a:xfrm>
            <a:off x="179280" y="3025800"/>
            <a:ext cx="4543560" cy="2117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VECTORIALES</a:t>
            </a: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Aquellas que se definen conociendo su Magnitud, dirección, sentido y unidad de medida.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j: Desplazamiento, velocidad,</a:t>
            </a: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 aceleración, fuerza, 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peso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0" name="10 Conector recto de flecha"/>
          <p:cNvCxnSpPr>
            <a:stCxn id="506" idx="2"/>
          </p:cNvCxnSpPr>
          <p:nvPr/>
        </p:nvCxnSpPr>
        <p:spPr>
          <a:xfrm>
            <a:off x="1782720" y="1798200"/>
            <a:ext cx="16560" cy="1227960"/>
          </a:xfrm>
          <a:prstGeom prst="straightConnector1">
            <a:avLst/>
          </a:prstGeom>
          <a:ln w="44280">
            <a:solidFill>
              <a:srgbClr val="000066"/>
            </a:solidFill>
            <a:miter/>
            <a:tailEnd len="lg" type="arrow" w="lg"/>
          </a:ln>
        </p:spPr>
      </p:cxnSp>
      <p:sp>
        <p:nvSpPr>
          <p:cNvPr id="511" name="32 CuadroTexto"/>
          <p:cNvSpPr/>
          <p:nvPr/>
        </p:nvSpPr>
        <p:spPr>
          <a:xfrm>
            <a:off x="4865760" y="2637000"/>
            <a:ext cx="3803400" cy="3290760"/>
          </a:xfrm>
          <a:prstGeom prst="rect">
            <a:avLst/>
          </a:prstGeom>
          <a:solidFill>
            <a:srgbClr val="29ff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ejemplo:  </a:t>
            </a:r>
            <a:r>
              <a:rPr b="1" lang="es-MX" sz="1400" spc="-1" strike="noStrike">
                <a:solidFill>
                  <a:srgbClr val="ff0000"/>
                </a:solidFill>
                <a:latin typeface="Times New Roman"/>
              </a:rPr>
              <a:t>Aceleracion de la gravedad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Magnitud 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9,8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Dirección   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vertica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Sentido 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hacia abajo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Unidad de medida 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66"/>
                </a:solidFill>
                <a:latin typeface="Times New Roman"/>
              </a:rPr>
              <a:t>m/</a:t>
            </a:r>
            <a:r>
              <a:rPr b="1" lang="es-MX" sz="11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es-MX" sz="14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2" name="12 Conector recto de flecha"/>
          <p:cNvCxnSpPr/>
          <p:nvPr/>
        </p:nvCxnSpPr>
        <p:spPr>
          <a:xfrm>
            <a:off x="6443280" y="3141720"/>
            <a:ext cx="1080" cy="1172160"/>
          </a:xfrm>
          <a:prstGeom prst="straightConnector1">
            <a:avLst/>
          </a:prstGeom>
          <a:ln w="44280">
            <a:solidFill>
              <a:srgbClr val="000066"/>
            </a:solidFill>
            <a:miter/>
            <a:tailEnd len="lg" type="arrow" w="lg"/>
          </a:ln>
        </p:spPr>
      </p:cxnSp>
      <p:sp>
        <p:nvSpPr>
          <p:cNvPr id="513" name="18 Flecha derecha"/>
          <p:cNvSpPr/>
          <p:nvPr/>
        </p:nvSpPr>
        <p:spPr>
          <a:xfrm>
            <a:off x="4351320" y="3641760"/>
            <a:ext cx="1366920" cy="438120"/>
          </a:xfrm>
          <a:prstGeom prst="rightArrow">
            <a:avLst>
              <a:gd name="adj1" fmla="val 50000"/>
              <a:gd name="adj2" fmla="val 499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19 CuadroTexto"/>
          <p:cNvSpPr/>
          <p:nvPr/>
        </p:nvSpPr>
        <p:spPr>
          <a:xfrm>
            <a:off x="6588000" y="3413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24"/>
          <p:cNvSpPr/>
          <p:nvPr/>
        </p:nvSpPr>
        <p:spPr>
          <a:xfrm>
            <a:off x="393840" y="5592600"/>
            <a:ext cx="5546520" cy="765360"/>
          </a:xfrm>
          <a:prstGeom prst="parallelogram">
            <a:avLst>
              <a:gd name="adj" fmla="val 0"/>
            </a:avLst>
          </a:prstGeom>
          <a:solidFill>
            <a:srgbClr val="ffae0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0000"/>
                </a:solidFill>
                <a:uFillTx/>
                <a:latin typeface="Times New Roman"/>
              </a:rPr>
              <a:t>1. SISTEMA DE REFERENCIA</a:t>
            </a:r>
            <a:r>
              <a:rPr b="0" lang="es-ES" sz="1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Es un punto fijo en el espacio a partir del cual se estudia el movimiento de un cuerpo (carro, persona, balón, etc)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Rectangle 28"/>
          <p:cNvSpPr/>
          <p:nvPr/>
        </p:nvSpPr>
        <p:spPr>
          <a:xfrm>
            <a:off x="1547640" y="162720"/>
            <a:ext cx="6696360" cy="100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Times New Roman"/>
              </a:rPr>
              <a:t>2. POSICIÓN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Arial"/>
              </a:rPr>
              <a:t>Representa el lugar que ocupa un cuerpo en el espacio  medido desde una sistema de referencia. En el grafico la posición inicial del auto es de 0 m, la posición del auto a los 30 s es de 20 m y la posición del auto a los 50 s es de 0 m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2066760" y="1212840"/>
            <a:ext cx="6177240" cy="4303800"/>
          </a:xfrm>
          <a:prstGeom prst="rect">
            <a:avLst/>
          </a:prstGeom>
          <a:ln w="0">
            <a:noFill/>
          </a:ln>
        </p:spPr>
      </p:pic>
      <p:cxnSp>
        <p:nvCxnSpPr>
          <p:cNvPr id="518" name="5 Conector curvado"/>
          <p:cNvCxnSpPr/>
          <p:nvPr/>
        </p:nvCxnSpPr>
        <p:spPr>
          <a:xfrm flipV="1" rot="16200000">
            <a:off x="2637000" y="5173920"/>
            <a:ext cx="942120" cy="384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519" name="13 Conector curvado"/>
          <p:cNvCxnSpPr/>
          <p:nvPr/>
        </p:nvCxnSpPr>
        <p:spPr>
          <a:xfrm rot="5400000">
            <a:off x="2266920" y="1701000"/>
            <a:ext cx="2664720" cy="1224720"/>
          </a:xfrm>
          <a:prstGeom prst="curvedConnector5">
            <a:avLst>
              <a:gd name="adj1" fmla="val 49993"/>
              <a:gd name="adj2" fmla="val 49985"/>
              <a:gd name="adj3" fmla="val 49993"/>
            </a:avLst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520" name="Picture 3" descr=""/>
          <p:cNvPicPr/>
          <p:nvPr/>
        </p:nvPicPr>
        <p:blipFill>
          <a:blip r:embed="rId2"/>
          <a:stretch/>
        </p:blipFill>
        <p:spPr>
          <a:xfrm>
            <a:off x="2627280" y="3308400"/>
            <a:ext cx="289080" cy="5522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3"/>
          <a:stretch/>
        </p:blipFill>
        <p:spPr>
          <a:xfrm>
            <a:off x="2556000" y="4532400"/>
            <a:ext cx="2872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3"/>
          <p:cNvSpPr/>
          <p:nvPr/>
        </p:nvSpPr>
        <p:spPr>
          <a:xfrm>
            <a:off x="380880" y="115920"/>
            <a:ext cx="830592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DESPLAZAMIENTO 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X (m) 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cambio de posición que realiza un cuerpo. Es un vector que se dibuja con una flecha  que une la posición inicial con la final.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63600" y="1413000"/>
            <a:ext cx="8305560" cy="1218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DISTACIA RECORRIDA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(m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la longitud que recorre un cuerpo sobre  su trayectoria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351000" y="2708280"/>
            <a:ext cx="830556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RAPIDEZ MEDIA 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cociente entre la </a:t>
            </a:r>
            <a:r>
              <a:rPr b="1" lang="es-ES" sz="1400" spc="-1" strike="noStrike">
                <a:solidFill>
                  <a:srgbClr val="008a00"/>
                </a:solidFill>
                <a:latin typeface="Arial"/>
              </a:rPr>
              <a:t>distancia recorrida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y el 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tiempo empleado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V= s/t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369720" y="4005360"/>
            <a:ext cx="8305920" cy="1218960"/>
          </a:xfrm>
          <a:prstGeom prst="rect">
            <a:avLst/>
          </a:prstGeom>
          <a:solidFill>
            <a:srgbClr val="6aff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VELOCIDAD MEDIA  V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cociente entre el </a:t>
            </a:r>
            <a:r>
              <a:rPr b="1" lang="es-ES" sz="1400" spc="-1" strike="noStrike">
                <a:solidFill>
                  <a:srgbClr val="008a00"/>
                </a:solidFill>
                <a:latin typeface="Arial"/>
              </a:rPr>
              <a:t>DESPLAZAMIENTO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y el 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tiempo empleado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X /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 Δ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   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351000" y="5300640"/>
            <a:ext cx="830556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VELOCIDAD PROMEDIO  Vp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promedio de las velocidades medias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Vp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= (V1 + V2 + V3 +…+ Vn )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/ n    (m/s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3"/>
          <p:cNvSpPr/>
          <p:nvPr/>
        </p:nvSpPr>
        <p:spPr>
          <a:xfrm>
            <a:off x="351000" y="765000"/>
            <a:ext cx="830556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ACELERACION MEDIA  a (m/</a:t>
            </a: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s-MX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Es el cambio de velocidad en un determinado tiempo</a:t>
            </a:r>
            <a:r>
              <a:rPr b="1" lang="es-E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7300"/>
                </a:solidFill>
                <a:latin typeface="Arial"/>
              </a:rPr>
              <a:t>        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= (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Δ</a:t>
            </a: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/</a:t>
            </a:r>
            <a:r>
              <a:rPr b="1" lang="el-GR" sz="1400" spc="-1" strike="noStrike">
                <a:solidFill>
                  <a:srgbClr val="ff0000"/>
                </a:solidFill>
                <a:latin typeface="Arial"/>
              </a:rPr>
              <a:t> Δ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(m/</a:t>
            </a: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s-MX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47:51Z</dcterms:created>
  <dc:creator>Celia</dc:creator>
  <dc:description/>
  <dc:language>en-US</dc:language>
  <cp:lastModifiedBy>GEOVANNY GONZALEZ</cp:lastModifiedBy>
  <dcterms:modified xsi:type="dcterms:W3CDTF">2014-06-27T02:43:27Z</dcterms:modified>
  <cp:revision>161</cp:revision>
  <dc:subject/>
  <dc:title>Presentación de PowerPoint</dc:title>
</cp:coreProperties>
</file>